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584-F00D-4D1F-808E-0D82BF81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9E2-469E-40A8-B024-FB17652C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EF8-3E7B-4A0D-B143-87232BE3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890-6F2E-4F77-A488-C1EB782C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D546-5BAD-4F92-9901-F8DC0515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601-EEBB-4BC6-B54F-BB79CDD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854-8639-4A40-BD24-55B272C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9C4-D8EA-47A7-89D9-217EFB6A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B8D-155E-4C28-A89C-3FE80D94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F05-5F45-4A82-A5BE-01938FD6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814-0860-4C1B-9A49-9FDCA370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9B8-F64D-47EB-8F07-B3036865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BCF8-4F4A-45D5-953B-94F30A29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11280" y="765000"/>
            <a:ext cx="3981600" cy="553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1672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5364000" y="364500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429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4437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04000" y="1197000"/>
            <a:ext cx="1800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ORARY ROOF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HED AND TIED TO BOTTOM OF STACK TO KEEP SUNLIGHT AND MOISTURE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48000" y="1413000"/>
            <a:ext cx="1584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836640"/>
            <a:ext cx="1944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R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RY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IMB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2:15:25Z</dcterms:created>
  <dc:creator>gcheetham</dc:creator>
  <dc:description/>
  <dc:language>en-US</dc:language>
  <cp:lastModifiedBy>gcheetham</cp:lastModifiedBy>
  <dcterms:modified xsi:type="dcterms:W3CDTF">2005-03-16T02:21:40Z</dcterms:modified>
  <cp:revision>1</cp:revision>
  <dc:subject/>
  <dc:title>Slide 1</dc:title>
</cp:coreProperties>
</file>